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3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7.xml" ContentType="application/vnd.openxmlformats-officedocument.presentationml.slideMaster+xml"/>
  <Override PartName="/ppt/theme/theme29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4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theme/theme15.xml" ContentType="application/vnd.openxmlformats-officedocument.theme+xml"/>
  <Override PartName="/ppt/theme/theme16.xml" ContentType="application/vnd.openxmlformats-officedocument.theme+xml"/>
  <Override PartName="/ppt/_rels/presentation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7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</p:sldMasterIdLst>
  <p:sldIdLst>
    <p:sldId id="256" r:id="rId33"/>
    <p:sldId id="257" r:id="rId34"/>
    <p:sldId id="258" r:id="rId35"/>
    <p:sldId id="259" r:id="rId36"/>
    <p:sldId id="260" r:id="rId37"/>
    <p:sldId id="261" r:id="rId38"/>
    <p:sldId id="262" r:id="rId39"/>
    <p:sldId id="263" r:id="rId40"/>
    <p:sldId id="264" r:id="rId41"/>
    <p:sldId id="265" r:id="rId42"/>
    <p:sldId id="266" r:id="rId43"/>
    <p:sldId id="267" r:id="rId44"/>
    <p:sldId id="268" r:id="rId45"/>
    <p:sldId id="269" r:id="rId46"/>
    <p:sldId id="270" r:id="rId47"/>
    <p:sldId id="271" r:id="rId48"/>
    <p:sldId id="272" r:id="rId49"/>
    <p:sldId id="273" r:id="rId50"/>
    <p:sldId id="274" r:id="rId51"/>
    <p:sldId id="275" r:id="rId52"/>
    <p:sldId id="276" r:id="rId53"/>
    <p:sldId id="277" r:id="rId54"/>
    <p:sldId id="278" r:id="rId55"/>
    <p:sldId id="279" r:id="rId56"/>
    <p:sldId id="280" r:id="rId57"/>
    <p:sldId id="281" r:id="rId58"/>
    <p:sldId id="282" r:id="rId59"/>
    <p:sldId id="283" r:id="rId60"/>
    <p:sldId id="284" r:id="rId61"/>
    <p:sldId id="285" r:id="rId62"/>
    <p:sldId id="286" r:id="rId63"/>
    <p:sldId id="287" r:id="rId6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" Target="slides/slide1.xml"/><Relationship Id="rId34" Type="http://schemas.openxmlformats.org/officeDocument/2006/relationships/slide" Target="slides/slide2.xml"/><Relationship Id="rId35" Type="http://schemas.openxmlformats.org/officeDocument/2006/relationships/slide" Target="slides/slide3.xml"/><Relationship Id="rId36" Type="http://schemas.openxmlformats.org/officeDocument/2006/relationships/slide" Target="slides/slide4.xml"/><Relationship Id="rId37" Type="http://schemas.openxmlformats.org/officeDocument/2006/relationships/slide" Target="slides/slide5.xml"/><Relationship Id="rId38" Type="http://schemas.openxmlformats.org/officeDocument/2006/relationships/slide" Target="slides/slide6.xml"/><Relationship Id="rId39" Type="http://schemas.openxmlformats.org/officeDocument/2006/relationships/slide" Target="slides/slide7.xml"/><Relationship Id="rId40" Type="http://schemas.openxmlformats.org/officeDocument/2006/relationships/slide" Target="slides/slide8.xml"/><Relationship Id="rId41" Type="http://schemas.openxmlformats.org/officeDocument/2006/relationships/slide" Target="slides/slide9.xml"/><Relationship Id="rId42" Type="http://schemas.openxmlformats.org/officeDocument/2006/relationships/slide" Target="slides/slide10.xml"/><Relationship Id="rId43" Type="http://schemas.openxmlformats.org/officeDocument/2006/relationships/slide" Target="slides/slide11.xml"/><Relationship Id="rId44" Type="http://schemas.openxmlformats.org/officeDocument/2006/relationships/slide" Target="slides/slide12.xml"/><Relationship Id="rId45" Type="http://schemas.openxmlformats.org/officeDocument/2006/relationships/slide" Target="slides/slide13.xml"/><Relationship Id="rId46" Type="http://schemas.openxmlformats.org/officeDocument/2006/relationships/slide" Target="slides/slide14.xml"/><Relationship Id="rId47" Type="http://schemas.openxmlformats.org/officeDocument/2006/relationships/slide" Target="slides/slide15.xml"/><Relationship Id="rId48" Type="http://schemas.openxmlformats.org/officeDocument/2006/relationships/slide" Target="slides/slide16.xml"/><Relationship Id="rId49" Type="http://schemas.openxmlformats.org/officeDocument/2006/relationships/slide" Target="slides/slide17.xml"/><Relationship Id="rId50" Type="http://schemas.openxmlformats.org/officeDocument/2006/relationships/slide" Target="slides/slide18.xml"/><Relationship Id="rId51" Type="http://schemas.openxmlformats.org/officeDocument/2006/relationships/slide" Target="slides/slide19.xml"/><Relationship Id="rId52" Type="http://schemas.openxmlformats.org/officeDocument/2006/relationships/slide" Target="slides/slide20.xml"/><Relationship Id="rId53" Type="http://schemas.openxmlformats.org/officeDocument/2006/relationships/slide" Target="slides/slide21.xml"/><Relationship Id="rId54" Type="http://schemas.openxmlformats.org/officeDocument/2006/relationships/slide" Target="slides/slide22.xml"/><Relationship Id="rId55" Type="http://schemas.openxmlformats.org/officeDocument/2006/relationships/slide" Target="slides/slide23.xml"/><Relationship Id="rId56" Type="http://schemas.openxmlformats.org/officeDocument/2006/relationships/slide" Target="slides/slide24.xml"/><Relationship Id="rId57" Type="http://schemas.openxmlformats.org/officeDocument/2006/relationships/slide" Target="slides/slide25.xml"/><Relationship Id="rId58" Type="http://schemas.openxmlformats.org/officeDocument/2006/relationships/slide" Target="slides/slide26.xml"/><Relationship Id="rId59" Type="http://schemas.openxmlformats.org/officeDocument/2006/relationships/slide" Target="slides/slide27.xml"/><Relationship Id="rId60" Type="http://schemas.openxmlformats.org/officeDocument/2006/relationships/slide" Target="slides/slide28.xml"/><Relationship Id="rId61" Type="http://schemas.openxmlformats.org/officeDocument/2006/relationships/slide" Target="slides/slide29.xml"/><Relationship Id="rId62" Type="http://schemas.openxmlformats.org/officeDocument/2006/relationships/slide" Target="slides/slide30.xml"/><Relationship Id="rId63" Type="http://schemas.openxmlformats.org/officeDocument/2006/relationships/slide" Target="slides/slide31.xml"/><Relationship Id="rId64" Type="http://schemas.openxmlformats.org/officeDocument/2006/relationships/slide" Target="slides/slide32.xml"/><Relationship Id="rId6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E6936-10BA-47EC-A179-2DF917C7D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602F4-E52C-4B41-87BB-06EF5CF8C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4D267C-0166-46FD-86CF-D4FA9538D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A5013F-3C8D-44A5-A5C2-5B9031661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017102-FCB7-4D76-947C-A2A450F64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740E54-32A0-4587-9435-7F4AA9BDD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FC5F88-D862-4C32-B1C3-A2B3E281D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6A1AAE-ACE1-402F-ACE3-88A9E9AE7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F6A514-4A98-4E3D-B72C-0CA92F81C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755814-FCA1-4DFD-BD1A-E283FBCB9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F534BC-CB92-46ED-8AB4-2AC653972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DFE2A9-E3F8-409E-86F0-FC8680104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65DBC-C738-4524-95C2-25CDC3848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3CAA4C-91F4-410A-9A40-06BCF06D4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63A253-A020-4CC8-B01F-2C9857041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B09283-A1D3-4FBF-B6DE-2B4FCDDD2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D16544-170C-4FF0-BC7A-3C42FEF69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652798-BE79-4B11-8507-8A0000411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128014-526B-4D7C-87CF-0B1940642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8524D9-2AAC-4E39-A4DB-B08A92198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E41CEE-F86A-44FB-96F0-731C0C8F3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DE834E-6E5E-4F42-A32C-A4818A622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BB5341-976C-4F37-925A-ECAE6594D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E2521-4AEF-4F6B-8A08-66C84AA13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B2908E-9332-4BB3-86FA-CDFF55BA0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F3846A-6505-4A40-8247-B31509D48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253605-1EB8-4D86-9FB0-52427F938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763C74-B421-4B8D-9567-0ABEB0D64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2A9939-6823-42BC-BA59-5083CA124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250AD2-A232-4969-AE1F-C743D5C29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B4013B-EB7E-4A10-9044-44C77F8DB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30357D-BDA6-41AF-AF72-2F13D62BB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AA53A2-8ABC-4DE0-A454-613E5C418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A6CA39-F892-4BBD-9CF0-E58E651A2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83B4D-E369-4206-905E-BA3102715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E4367A-B008-48FD-B0A2-6C91E0416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213F79-EA53-480A-BE95-E1CCAFAB9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AAD269-B753-4D11-99FC-0F71CFE30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185D02-8DAF-4D0F-9F91-8116FE753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BCEE1F-0491-4044-806D-55C6AA2E1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BF0B93-441A-4FB1-B70E-C42CDA6FC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1EFEAF-8E14-4AA0-BD6B-07B774E80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D8077A-D26E-496E-BB77-1C970C944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BFCBA5-9DC6-4508-A97A-15D48FCAA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99BA70-4537-4CCA-8498-0980A0243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8AFFB-308E-49B3-868D-27EEF2E4C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6180EE-5DB9-4B2C-97B3-8D93AAC67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C798C3-50B2-45CC-B012-1E1D206B2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40FE64-49AF-4676-A1AF-5C01B500B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14BDA7-3D2E-4697-A213-EE3739708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BB6008-3AFA-4DC1-BF90-8D5002F19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F135F44-6F41-4D45-A918-47A13C647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1D5DAA3-1665-4097-8308-734CFFC4A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EE7260E-6AE8-4176-9068-33EA3FACF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3C9FEE1-9936-494B-B505-B6A907AA1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87841DA-0B97-4CF6-9434-A6C634D9A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49507-59A0-4546-847D-FA60DCD63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4988AF2-77C9-496A-905B-925D80EAA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CA795CB-583A-4D06-856F-56BE04A6E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957AFB9-40C3-41E7-B101-B81027E6E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21514D2-79E9-4AC4-A384-DBB37077A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DB1DE4F-6E5E-4500-BE06-6B39A99ED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97D7A75-D4F5-41B4-857E-AA08134A3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5748252-F02C-4E25-9E33-B7D787640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BBB7935-340B-4DEB-BBEA-A747E5AB6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C719D09-D846-4A8D-BA8A-8CD237576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F349737-6A2E-445C-B824-C21FC105B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89333-75B4-42E3-93BB-70F2F6FFA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C11C4D1-628D-4719-A88C-295C874FB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7FF1B1F-99A1-4925-A459-5F04BC541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3557EEE-DB8B-421D-A8C2-131993D24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3A8C6E8-CE77-4E32-98FB-999DBBFB5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E7E853A-50EC-4527-9551-FD2DEC6B2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60A1AA7-6216-4A9F-96AC-3DBB2918C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F128AC3-FDBC-4CAC-AD0E-45A2FBA8A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D3FF73E-83F8-4F9A-A44A-1C4EAA828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CB7F08A-3DF4-4B97-9953-B29908070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627E433-B530-4612-B561-100B57813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86092-5386-4296-8912-8113421DC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553D0CF-745D-4664-90F8-1BAA6D5AD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D057DAC-D39A-415E-A17E-655C09AC4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EF57515-30FA-448A-8524-4E9B6A949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B67966F-3647-4DC1-B30B-4105535AF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8A52355-7095-4A50-87F7-2C33838DA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676E9EA-B124-4EE1-86AD-1545889D3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B9E8085-0F12-4A1F-963E-E65FAD662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E4C30E2-9573-4909-B6E6-141C214A7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2220AA3-F47B-4891-A1A5-2AA29A246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A141617-D51A-4E8B-A43C-38679BD9F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5B208-71B9-4804-BB05-97F515A97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8380172-C04A-438D-AB14-FB252CC1E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70553BF-3DDB-44AE-AC6E-902CD3B83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519B8E0-E003-48D8-A88A-F78A7D95D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E2B7391-B79E-4CC0-9376-590AEA819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8FA2525-38CB-4AD5-8F0E-2F00B33FF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73820D5-8011-4494-BDF1-A94367F2D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DB1DCAE-C027-4E1D-ABE4-FFFBEFCB9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5ACF15F-BC05-459A-A65B-7A254AC22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3DF8220-6DCF-4D0E-AC77-C60E1B90A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E1F78DC-ACA0-4353-8D1D-B5B414ADD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70B0E-CEBB-45C4-9611-8D07B0DA8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0A4CBFE-476F-4D53-A9AA-E7CC0D46D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19AE02B-3B61-4C17-AC4A-6524B7BD5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BAE7BCF-1470-41ED-809B-FCE655871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4631F94-5106-4D55-95A3-F1C505170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6FAF631-ACEC-4F19-821F-5C607EF1D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C5264F8-7245-4090-A839-EBC4EB2D5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42F7B89-A458-461D-A740-263346CB9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6340FAB-4001-42E4-A15B-E08A61319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6CA59CE-2813-4E47-9B6F-D56C53EC5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0B549F9-C589-4636-A30A-3746DD884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57B1F-4EB7-4204-AFE8-F2C268FE5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881AB-3EBD-449E-864C-5043C19C6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28453E9-A242-4859-ABDE-6C8CD7C7C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2291427-B4AA-4C0F-9FDF-B030A9FAB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B6A8AED-CDA2-4B5D-A215-E89A74CA2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A6D2DD3-F859-485C-B155-2635F77DE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DA164CA-D4E0-46D0-B516-889B61C7D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628722A-6606-4422-B4CE-19583CB8A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0E83305-90AC-4E4A-8744-E3C5EC9BF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B81D8B5-61F7-4A93-B295-83EE89FE1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D2D72C5-E51B-4D64-B43C-E0398CE57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71F74AC-C320-4277-A2F6-21D94FF21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0E11E-4FFA-4843-AA93-B8EFCF90A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2DAA661-F420-4CA4-B83F-03E4D2BA9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85F020A-F6A0-434C-BD18-0C3D5395E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A02BF09-60AF-4C64-8331-E84EA1200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A3F014C-8DDE-49FE-872C-33563DC21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C4327C5-D72F-44B6-AF83-5B4FDCFAC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E8C57AD-D2F2-40F6-B94F-A9B146ECA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94A3823-3E55-4B69-A936-1D04831B3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5FBB4A5-8900-423D-804A-09362FC0E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50F274B-F716-459D-9E50-7020766EA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5AD9170-14A3-41C7-8D9D-3D617CCE6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83018-50A4-41C6-977C-C2D5EA324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851745C-8B97-4840-954D-674F9F1CE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D4EB2F9-92FD-4B08-BC66-2D156CD37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DDADBC7-FE3C-4706-8560-2486A9E10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0E152E6-1717-4B8B-953C-C0FCCB8B0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EA2F85B-B4E0-4CA9-8A9B-29E697142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936D7EC-23CE-41C3-8675-4D03E2E9A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62F22FE-E564-47A5-9275-AAF33718F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81E188C-E712-4410-B8BB-2EC0DB996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AC7DD3B-0C68-4AB7-88D8-43D9A4DEE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A70CAB9-A0BE-419C-A6E8-8329A636C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64CB0-F06D-4BD6-98BB-DDAACE299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9BBBDFB-88C6-47C0-AA8C-267771973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69B0547-B255-4000-B350-7B126FC87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99B90CF-31F7-4CEF-85A8-81B58F374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E087F7B-1CD6-4414-B849-356B6FA8C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09DAC7A-C420-47EC-B0EF-CF46378CF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7288479-587F-4926-AC7D-CCF1AB7FA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25DF239-BDDC-4B79-BD69-09238079D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ABAA9B0-3F76-44A1-92D5-381C2F0D3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374EEE9-A359-4BB9-80E3-DF199EBF3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0DC1058-863C-47CB-868C-092087603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FF1E0-FF1C-462A-8D86-B5DFDBAF8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7C8C024-5496-4211-851B-6A1E4086E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44AD115-F9B6-48A0-B624-04E6D0933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208692A-F68B-436C-AC78-D1CCDCE99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519A077-470E-401F-AD09-71DAD9EB7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8825453-FB49-48CA-BECB-830FCC178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DB735E1-39F7-4579-9798-FAFF64D39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77EA256-A6F9-403F-A33F-73C3E8C36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E7BFDC5-0362-4C59-A154-F4040A47F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DA50E4E-E947-4662-A7B6-064C20453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C3CD352-6F12-408A-B30E-56654D734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AACE2F-F3D0-499D-A3CA-BC1EA4182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D16F0F8-723A-4D1B-AD65-98A96A620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93B51B9-8245-4F74-92B2-6F351AFF5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B1C7703-331E-4A98-9F7A-EFC521D8C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8DDA07B-A3E5-40D3-B704-D257C01B6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272D94C-0378-4226-9D54-11B2CB9CB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2C0BF12-1A0B-4250-B09C-92BCBFFA9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06A36C4-C27F-4F51-A4EC-E15AB98B7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934177F-6689-4545-95E3-534E1877E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E9F6E64-76E7-4F8C-A212-9DB84D229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09B5E2B-B8D5-417F-8411-4AD78E8A5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30CF62-D5D8-4328-A20F-0B57210F6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1097986-788E-4CD5-9D50-5C5476D3D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641F6DF-4CDC-49DA-A615-15689F0C4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7DBF7BE-FA38-4420-BA30-1B94B0502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0E941C5-82F5-49B3-8843-CE0ADCA9E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BB53CC4-ADC2-4CB7-ACBF-4E41A79FE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7446EC2-757A-4191-88AF-96C775B1C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4F388D8-5429-4D74-A91F-D5476776A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08906B5-1271-40F9-BB9E-016F04CB7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E7BE495-F06A-46E8-A143-24E0CD9CE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7ED4953-5951-4EA4-9326-4B7D84737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C4A92F-6658-4D6B-A503-572AE150A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10E31F8-E79C-4EF3-BB1A-4F9FF4E84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6E5B837-5B9E-440B-97B9-8B8830293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CA11993-1DE3-4769-B5BD-A54E32283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2783499-21CA-477D-8507-C694E9434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FCC4A7E-1134-4A7E-A58E-D60AA7318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055491D-7C6E-47FD-9220-2A4E60547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DFEF545-0F5A-4A97-A9DD-82712EA10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FE2A6AB-EEEB-400A-9CAF-3EF4807A4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7D85F2F-1A25-40C3-9359-3D588D5BF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56875A0-1CFC-4B2F-9CA2-0F090E203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FE43CA-24C1-48B3-80B1-977F0E0A7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AD2EF4F-AA48-4470-85FD-EDDB63C59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628D702-104E-4971-9501-0F04C4FF2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8146404-56D4-4492-A97A-53A62F156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6AA0772-663D-433E-AB2F-44B2FF7EB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825D0E4-08B6-4418-AC5A-2E5A272BC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0791F9C-886E-4A7B-9702-3EBEEF2B1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60FF929-2644-4460-8319-8297BBED4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EF9D7BB-0880-46B7-96F0-E92C8A13C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8B5D0B2-1D46-428F-8EAF-30BB58C10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E2D6596-1AA7-41B6-9317-78E9834B1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4C7F4F-6552-47BA-A789-8DF26528C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987091B-819A-4D86-9219-FB39F1EB7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464FD44-3793-470E-A1AD-700763B18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25AFEE9-D506-40DB-A068-6487BE0C1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6620788-51E6-435F-A79C-B092E84C8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999BCAD-AEEE-4E95-ACB6-2DDCC7A17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84152FC-1CB1-4DCE-BF99-3B7489198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0CE0188-8F73-4938-8072-9CA524DFB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F43731F-613C-4F9F-B1B2-DFA1585F1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AE569C4-0E08-470E-9D5E-7997088FA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BE4753C-E168-4F69-A2A4-3A4874C2C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2E617-C8FA-4F12-9C0C-C48A61354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1DE613-16BC-4CAF-AB4C-4D473C23E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2AEB656-7234-41B0-AFA0-2F310C37F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254A0FA-10B0-4862-B22E-F580B3B93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85C3A3F-0213-488E-8AD7-FF6B98319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34463A4-66E0-40EB-86AE-65123226C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DDEE450-1BAD-47C1-96A7-B5D649902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04D0446-A64F-4EDB-9023-1706707F2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BF6D79A-5EB0-47C3-9792-561B57C83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818B93E-45E5-469E-B629-D89CF6C82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EB89035-F6E1-4FEF-AF1C-37E394024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9EF4B44-2FC9-456D-90F4-674647E46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7D2DCE-18C2-4CD6-A430-BC52692E4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6EF5383-6B80-4B30-B082-C109147C2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92DADCD-DA39-4284-AD2F-6D2FDB7AE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F8BF1BD-761C-48B7-9A16-05C9BC083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BDCEC3C-AD14-4C64-9949-3208AEACC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D41944A-919D-47CC-B32D-C83D1AC7F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6CBA79D-539D-4B95-BD89-651595A02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6B24EE3-7B45-4554-AA92-A04FF48CE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10D9244-F459-405E-BB46-DA6C24504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42A21FC-34EC-4027-9CD1-8A2129504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9B38A49-64A5-46DD-81D5-64880A221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16DD54-9881-42F0-9F0C-EF32371FE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13FC277-8DE5-4BEE-B1D2-A97A50F23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6000761-AD7F-4092-A6DE-A7B518003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1BB7270-B8C5-4C3A-BD12-3BA4C64A7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975E386-D876-473D-BEAB-8058BBE20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1EABF9F-0650-4E60-94E0-B575A731E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B985163-77AF-4265-BD34-A591B5456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68D7151-36B5-4F7A-A804-AF7CA93B5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0298F8D-7591-4B5A-AD79-212C161CA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19212D4-D609-45F6-831C-FCF53D705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7C06A59-0471-457A-A0AE-D46BFCA54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329BB8-7CBD-4385-8601-153009F83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5DD4BD2-DC72-45B9-B87D-94ACBB036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A4A6374-2385-4A74-87C3-1F09D8361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A207CA0-5642-4A2A-B857-6817110D5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AD89144-1350-4795-9182-894AEE116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F5C578B-A141-4977-9C74-B8ADAE7F3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5CD87AB-470C-44AC-B11C-48A085026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8631DC1-6D07-4688-B567-CCF81A8DE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214112F-4C38-40D5-90B2-B536A86DA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6F10C45-45DC-437C-AF00-F392A8436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3102011-AC88-4698-A3B3-E86E5C63C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67E303-B4B1-491B-A762-6200B2E87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8FECF0D-2264-4711-A807-B0C7EF738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72BD82D-0458-4C08-8E64-74682EFA7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74E7BB6-43CF-4339-BC7C-20A9D5712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3AAC69E-0112-4D78-A5ED-2B7371245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05CA65B-D783-4AC0-A3CE-9A61A5DEB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E937482-C218-44F2-90FE-0036738A0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8206596-6743-47CC-8916-173434E30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BB444CB-D668-4784-9F79-C70DF4563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7EB9509-44C6-4492-827D-AE3FE1788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110D224-59BD-4EC0-AB60-34E8D8E62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652A69-B847-4568-A29D-6D877E447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0B6911F-5CF5-4260-AAB2-662EC3E29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87C26E9-AB01-4BA8-A830-0A2E5F6D4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10CA7F9-CFFF-4105-90C1-36886C383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5A23537-3314-4694-93E0-F67677359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A287646-F877-4625-A602-A642CD49B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8385318-2D37-4515-81E3-4CDB21B2B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3D967FE-EDF3-49FC-82EF-BF84501A5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0AF4734-4C2B-4323-BAFC-63BA0B7FF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D28687C-33C3-4EAD-8231-78BD402AC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41E3357-53CA-441E-846C-79F7D3C6F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1DE6F5-79B0-44F3-9A8D-760DE468A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A610DC9-825C-4EA0-8F36-1B22E9859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990E207-FEFA-4E41-A9CC-482EFB964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5353FC4-595E-4125-9B2F-F22EEB523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2F4A7A0-431D-496C-AD9D-B631C4513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F6596EE-2DFF-40C1-BC5D-5AB89D0EF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5E88585-2A4F-471A-A75C-5AE7214EB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643CF3E-8832-4651-A295-9EF890686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711A37D-2BC7-4A30-8A3C-B4056FA32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3875FF6-8CAA-42C2-9584-6AFEB2A78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40E94A9-879B-43FE-B9D5-DB07A2424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AF15F6-4FC1-44F5-ACA1-34782DCEE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68F5C54-C1F0-4A36-980F-F8FBCF5B2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0FF3763-8320-4BCD-B286-2BD3785DB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4EFE3F9-4DBE-490A-8E88-E1D369210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017893-EBF0-45A3-B535-29AC906E8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CBC738-D7D6-4C37-B9F8-0E20B6561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E0C23-3081-4DB5-AE03-CF1F68736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D82373-052B-45D4-903A-CE44E00CE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6D5EEF-119C-413A-A2E5-096A4BE40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D15C31-767C-4531-9BEA-E5A466524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D79B48-B964-4440-A300-A0E2DE7F3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FBAA6E-4D88-438C-A91F-0B76695CA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97DE01-5266-43E3-9A1E-1EE984500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D8852A-0933-4701-8543-AFD23E6A9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C62EEC-4227-43FD-9F94-9ACD77067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9E6040-DD7B-4308-B9D1-02A281695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C66F7F-3DE1-493D-9DEE-E21EA2776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874CA-E134-4436-BB3A-D35F2B7F7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80E02A-ADE1-4AA8-A05B-01058E6ED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F0FC1F-37FF-4994-B391-7FC40CD66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CA8ADD-BE58-4EAF-8039-8FD538F70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EE5CC3-E242-45A7-BC76-9F007F489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C9C6B1-927E-4F6C-A077-EB869CBC1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04D11C-81AD-4ACD-BA14-153CADF80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911F53-DB96-4494-9E21-AB2663D30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B2060C-7A63-4D8A-972F-89141928C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FE3C1B-4397-4DDE-B108-EEFD15E0C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F53F42-9E41-4177-A48B-056E35A4E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52B50-2D27-49E2-85AF-093E8F597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D2CAE6-360A-4A4B-8B29-849A02A10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74A38F-8103-4718-BBB8-553FA87CF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32CFD5-4A72-4DE4-82E9-1BD98BAB6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4B3017-D404-49A2-92B3-C2016BFDB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F8BD67-2EB5-4BFB-AA8D-3D3F98C39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FFAF00-7A48-4A5E-AD87-1F66E30A5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31E136-5853-4439-B8D9-89981622B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75CEBA-90D5-4E35-B3AC-36E802B9C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78BC4E-EAD0-4F09-94D9-7AE0BB0EE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5CC196-2FFF-46B2-8ED8-FCBB3BF60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F9C7B-D3BD-4F5F-85D7-EA88D78D1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381E64-69A4-4504-B2A6-0426A06A8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1076D1-4BAA-494E-A3BF-359D2BD2B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33A3EA-F161-42D9-BDD4-AAEC4F2BD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DB38A3-5D9E-4D75-B3D3-4E3FE8237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AD9E8C-312C-4C03-81E9-C6D84DA33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1448AD-CFEF-4AE6-968D-B024E3454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5AB292-B3CA-4338-9B0D-7064A91BE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3933A7-CCF7-4A24-AEFF-4523F9FCB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B37CE0-5020-4AE9-B13F-990B64F0E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E943C4-BCA5-49B3-892F-5631E4853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36838-2B1C-4F82-A19A-26B1B2211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F0A3FB-A6FB-4C1F-8E10-83859FA33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BCDCC4-4E3F-4A3B-8687-95C9FE113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28CA02-9D91-411E-8806-9A38D9DA0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261B58-9CCD-46D3-9667-507414FDB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AADBD8-0562-43C1-BB6E-AF96D81C3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A60D19-A1C8-40CA-8726-A63985924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5EF885-54B5-4E4F-8CE7-D8C106799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BA4504-370A-4B9C-9520-59ABB726A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133EFB-B32B-40C0-9B4E-D0DF4D9FB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A97088-51B1-419A-86FD-08075F5E3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5253E-3BBE-4224-85F0-34CEBC31F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E07B53-56FB-4A57-B4A3-F85F99E61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8D2FB6-0D18-4F68-8A42-A175D3AC2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B4A9FB-DFAE-4253-BE62-7852417CC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6A565F-A9ED-45FB-A16D-F9F793930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8F1E32-328B-44BB-ADD3-CFE829862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61EDF6-484C-4C57-9F43-E72FA415D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65DCE4-CC95-453A-9C4E-38B3ECF24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174E6F-4573-4492-97D5-C5B148270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974FD0-0A8E-4501-BAB7-F0CB77C29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DDE011-B195-4EDF-849D-0ACE26D59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77.xml"/><Relationship Id="rId5" Type="http://schemas.openxmlformats.org/officeDocument/2006/relationships/slideLayout" Target="../slideLayouts/slideLayout278.xml"/><Relationship Id="rId6" Type="http://schemas.openxmlformats.org/officeDocument/2006/relationships/slideLayout" Target="../slideLayouts/slideLayout279.xml"/><Relationship Id="rId7" Type="http://schemas.openxmlformats.org/officeDocument/2006/relationships/slideLayout" Target="../slideLayouts/slideLayout280.xml"/><Relationship Id="rId8" Type="http://schemas.openxmlformats.org/officeDocument/2006/relationships/slideLayout" Target="../slideLayouts/slideLayout281.xml"/><Relationship Id="rId9" Type="http://schemas.openxmlformats.org/officeDocument/2006/relationships/slideLayout" Target="../slideLayouts/slideLayout282.xml"/><Relationship Id="rId10" Type="http://schemas.openxmlformats.org/officeDocument/2006/relationships/slideLayout" Target="../slideLayouts/slideLayout283.xml"/><Relationship Id="rId11" Type="http://schemas.openxmlformats.org/officeDocument/2006/relationships/slideLayout" Target="../slideLayouts/slideLayout284.xml"/><Relationship Id="rId12" Type="http://schemas.openxmlformats.org/officeDocument/2006/relationships/slideLayout" Target="../slideLayouts/slideLayout285.xml"/><Relationship Id="rId13" Type="http://schemas.openxmlformats.org/officeDocument/2006/relationships/slideLayout" Target="../slideLayouts/slideLayout286.xml"/><Relationship Id="rId14" Type="http://schemas.openxmlformats.org/officeDocument/2006/relationships/slideLayout" Target="../slideLayouts/slideLayout287.xml"/><Relationship Id="rId15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89.xml"/><Relationship Id="rId5" Type="http://schemas.openxmlformats.org/officeDocument/2006/relationships/slideLayout" Target="../slideLayouts/slideLayout290.xml"/><Relationship Id="rId6" Type="http://schemas.openxmlformats.org/officeDocument/2006/relationships/slideLayout" Target="../slideLayouts/slideLayout291.xml"/><Relationship Id="rId7" Type="http://schemas.openxmlformats.org/officeDocument/2006/relationships/slideLayout" Target="../slideLayouts/slideLayout292.xml"/><Relationship Id="rId8" Type="http://schemas.openxmlformats.org/officeDocument/2006/relationships/slideLayout" Target="../slideLayouts/slideLayout293.xml"/><Relationship Id="rId9" Type="http://schemas.openxmlformats.org/officeDocument/2006/relationships/slideLayout" Target="../slideLayouts/slideLayout294.xml"/><Relationship Id="rId10" Type="http://schemas.openxmlformats.org/officeDocument/2006/relationships/slideLayout" Target="../slideLayouts/slideLayout295.xml"/><Relationship Id="rId11" Type="http://schemas.openxmlformats.org/officeDocument/2006/relationships/slideLayout" Target="../slideLayouts/slideLayout296.xml"/><Relationship Id="rId12" Type="http://schemas.openxmlformats.org/officeDocument/2006/relationships/slideLayout" Target="../slideLayouts/slideLayout297.xml"/><Relationship Id="rId13" Type="http://schemas.openxmlformats.org/officeDocument/2006/relationships/slideLayout" Target="../slideLayouts/slideLayout298.xml"/><Relationship Id="rId14" Type="http://schemas.openxmlformats.org/officeDocument/2006/relationships/slideLayout" Target="../slideLayouts/slideLayout299.xml"/><Relationship Id="rId15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01.xml"/><Relationship Id="rId5" Type="http://schemas.openxmlformats.org/officeDocument/2006/relationships/slideLayout" Target="../slideLayouts/slideLayout302.xml"/><Relationship Id="rId6" Type="http://schemas.openxmlformats.org/officeDocument/2006/relationships/slideLayout" Target="../slideLayouts/slideLayout303.xml"/><Relationship Id="rId7" Type="http://schemas.openxmlformats.org/officeDocument/2006/relationships/slideLayout" Target="../slideLayouts/slideLayout304.xml"/><Relationship Id="rId8" Type="http://schemas.openxmlformats.org/officeDocument/2006/relationships/slideLayout" Target="../slideLayouts/slideLayout305.xml"/><Relationship Id="rId9" Type="http://schemas.openxmlformats.org/officeDocument/2006/relationships/slideLayout" Target="../slideLayouts/slideLayout306.xml"/><Relationship Id="rId10" Type="http://schemas.openxmlformats.org/officeDocument/2006/relationships/slideLayout" Target="../slideLayouts/slideLayout307.xml"/><Relationship Id="rId11" Type="http://schemas.openxmlformats.org/officeDocument/2006/relationships/slideLayout" Target="../slideLayouts/slideLayout308.xml"/><Relationship Id="rId12" Type="http://schemas.openxmlformats.org/officeDocument/2006/relationships/slideLayout" Target="../slideLayouts/slideLayout309.xml"/><Relationship Id="rId13" Type="http://schemas.openxmlformats.org/officeDocument/2006/relationships/slideLayout" Target="../slideLayouts/slideLayout310.xml"/><Relationship Id="rId14" Type="http://schemas.openxmlformats.org/officeDocument/2006/relationships/slideLayout" Target="../slideLayouts/slideLayout311.xml"/><Relationship Id="rId15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13.xml"/><Relationship Id="rId4" Type="http://schemas.openxmlformats.org/officeDocument/2006/relationships/slideLayout" Target="../slideLayouts/slideLayout314.xml"/><Relationship Id="rId5" Type="http://schemas.openxmlformats.org/officeDocument/2006/relationships/slideLayout" Target="../slideLayouts/slideLayout315.xml"/><Relationship Id="rId6" Type="http://schemas.openxmlformats.org/officeDocument/2006/relationships/slideLayout" Target="../slideLayouts/slideLayout316.xml"/><Relationship Id="rId7" Type="http://schemas.openxmlformats.org/officeDocument/2006/relationships/slideLayout" Target="../slideLayouts/slideLayout317.xml"/><Relationship Id="rId8" Type="http://schemas.openxmlformats.org/officeDocument/2006/relationships/slideLayout" Target="../slideLayouts/slideLayout318.xml"/><Relationship Id="rId9" Type="http://schemas.openxmlformats.org/officeDocument/2006/relationships/slideLayout" Target="../slideLayouts/slideLayout319.xml"/><Relationship Id="rId10" Type="http://schemas.openxmlformats.org/officeDocument/2006/relationships/slideLayout" Target="../slideLayouts/slideLayout320.xml"/><Relationship Id="rId11" Type="http://schemas.openxmlformats.org/officeDocument/2006/relationships/slideLayout" Target="../slideLayouts/slideLayout321.xml"/><Relationship Id="rId12" Type="http://schemas.openxmlformats.org/officeDocument/2006/relationships/slideLayout" Target="../slideLayouts/slideLayout322.xml"/><Relationship Id="rId13" Type="http://schemas.openxmlformats.org/officeDocument/2006/relationships/slideLayout" Target="../slideLayouts/slideLayout323.xml"/><Relationship Id="rId14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25.xml"/><Relationship Id="rId5" Type="http://schemas.openxmlformats.org/officeDocument/2006/relationships/slideLayout" Target="../slideLayouts/slideLayout326.xml"/><Relationship Id="rId6" Type="http://schemas.openxmlformats.org/officeDocument/2006/relationships/slideLayout" Target="../slideLayouts/slideLayout327.xml"/><Relationship Id="rId7" Type="http://schemas.openxmlformats.org/officeDocument/2006/relationships/slideLayout" Target="../slideLayouts/slideLayout328.xml"/><Relationship Id="rId8" Type="http://schemas.openxmlformats.org/officeDocument/2006/relationships/slideLayout" Target="../slideLayouts/slideLayout329.xml"/><Relationship Id="rId9" Type="http://schemas.openxmlformats.org/officeDocument/2006/relationships/slideLayout" Target="../slideLayouts/slideLayout330.xml"/><Relationship Id="rId10" Type="http://schemas.openxmlformats.org/officeDocument/2006/relationships/slideLayout" Target="../slideLayouts/slideLayout331.xml"/><Relationship Id="rId11" Type="http://schemas.openxmlformats.org/officeDocument/2006/relationships/slideLayout" Target="../slideLayouts/slideLayout332.xml"/><Relationship Id="rId12" Type="http://schemas.openxmlformats.org/officeDocument/2006/relationships/slideLayout" Target="../slideLayouts/slideLayout333.xml"/><Relationship Id="rId13" Type="http://schemas.openxmlformats.org/officeDocument/2006/relationships/slideLayout" Target="../slideLayouts/slideLayout334.xml"/><Relationship Id="rId14" Type="http://schemas.openxmlformats.org/officeDocument/2006/relationships/slideLayout" Target="../slideLayouts/slideLayout335.xml"/><Relationship Id="rId15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37.xml"/><Relationship Id="rId5" Type="http://schemas.openxmlformats.org/officeDocument/2006/relationships/slideLayout" Target="../slideLayouts/slideLayout338.xml"/><Relationship Id="rId6" Type="http://schemas.openxmlformats.org/officeDocument/2006/relationships/slideLayout" Target="../slideLayouts/slideLayout339.xml"/><Relationship Id="rId7" Type="http://schemas.openxmlformats.org/officeDocument/2006/relationships/slideLayout" Target="../slideLayouts/slideLayout340.xml"/><Relationship Id="rId8" Type="http://schemas.openxmlformats.org/officeDocument/2006/relationships/slideLayout" Target="../slideLayouts/slideLayout341.xml"/><Relationship Id="rId9" Type="http://schemas.openxmlformats.org/officeDocument/2006/relationships/slideLayout" Target="../slideLayouts/slideLayout342.xml"/><Relationship Id="rId10" Type="http://schemas.openxmlformats.org/officeDocument/2006/relationships/slideLayout" Target="../slideLayouts/slideLayout343.xml"/><Relationship Id="rId11" Type="http://schemas.openxmlformats.org/officeDocument/2006/relationships/slideLayout" Target="../slideLayouts/slideLayout344.xml"/><Relationship Id="rId12" Type="http://schemas.openxmlformats.org/officeDocument/2006/relationships/slideLayout" Target="../slideLayouts/slideLayout345.xml"/><Relationship Id="rId13" Type="http://schemas.openxmlformats.org/officeDocument/2006/relationships/slideLayout" Target="../slideLayouts/slideLayout346.xml"/><Relationship Id="rId14" Type="http://schemas.openxmlformats.org/officeDocument/2006/relationships/slideLayout" Target="../slideLayouts/slideLayout347.xml"/><Relationship Id="rId15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49.xml"/><Relationship Id="rId5" Type="http://schemas.openxmlformats.org/officeDocument/2006/relationships/slideLayout" Target="../slideLayouts/slideLayout350.xml"/><Relationship Id="rId6" Type="http://schemas.openxmlformats.org/officeDocument/2006/relationships/slideLayout" Target="../slideLayouts/slideLayout351.xml"/><Relationship Id="rId7" Type="http://schemas.openxmlformats.org/officeDocument/2006/relationships/slideLayout" Target="../slideLayouts/slideLayout352.xml"/><Relationship Id="rId8" Type="http://schemas.openxmlformats.org/officeDocument/2006/relationships/slideLayout" Target="../slideLayouts/slideLayout353.xml"/><Relationship Id="rId9" Type="http://schemas.openxmlformats.org/officeDocument/2006/relationships/slideLayout" Target="../slideLayouts/slideLayout354.xml"/><Relationship Id="rId10" Type="http://schemas.openxmlformats.org/officeDocument/2006/relationships/slideLayout" Target="../slideLayouts/slideLayout355.xml"/><Relationship Id="rId11" Type="http://schemas.openxmlformats.org/officeDocument/2006/relationships/slideLayout" Target="../slideLayouts/slideLayout356.xml"/><Relationship Id="rId12" Type="http://schemas.openxmlformats.org/officeDocument/2006/relationships/slideLayout" Target="../slideLayouts/slideLayout357.xml"/><Relationship Id="rId13" Type="http://schemas.openxmlformats.org/officeDocument/2006/relationships/slideLayout" Target="../slideLayouts/slideLayout358.xml"/><Relationship Id="rId14" Type="http://schemas.openxmlformats.org/officeDocument/2006/relationships/slideLayout" Target="../slideLayouts/slideLayout359.xml"/><Relationship Id="rId15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61.xml"/><Relationship Id="rId5" Type="http://schemas.openxmlformats.org/officeDocument/2006/relationships/slideLayout" Target="../slideLayouts/slideLayout362.xml"/><Relationship Id="rId6" Type="http://schemas.openxmlformats.org/officeDocument/2006/relationships/slideLayout" Target="../slideLayouts/slideLayout363.xml"/><Relationship Id="rId7" Type="http://schemas.openxmlformats.org/officeDocument/2006/relationships/slideLayout" Target="../slideLayouts/slideLayout364.xml"/><Relationship Id="rId8" Type="http://schemas.openxmlformats.org/officeDocument/2006/relationships/slideLayout" Target="../slideLayouts/slideLayout365.xml"/><Relationship Id="rId9" Type="http://schemas.openxmlformats.org/officeDocument/2006/relationships/slideLayout" Target="../slideLayouts/slideLayout366.xml"/><Relationship Id="rId10" Type="http://schemas.openxmlformats.org/officeDocument/2006/relationships/slideLayout" Target="../slideLayouts/slideLayout367.xml"/><Relationship Id="rId11" Type="http://schemas.openxmlformats.org/officeDocument/2006/relationships/slideLayout" Target="../slideLayouts/slideLayout368.xml"/><Relationship Id="rId12" Type="http://schemas.openxmlformats.org/officeDocument/2006/relationships/slideLayout" Target="../slideLayouts/slideLayout369.xml"/><Relationship Id="rId13" Type="http://schemas.openxmlformats.org/officeDocument/2006/relationships/slideLayout" Target="../slideLayouts/slideLayout370.xml"/><Relationship Id="rId14" Type="http://schemas.openxmlformats.org/officeDocument/2006/relationships/slideLayout" Target="../slideLayouts/slideLayout371.xml"/><Relationship Id="rId15" Type="http://schemas.openxmlformats.org/officeDocument/2006/relationships/slideLayout" Target="../slideLayouts/slideLayout372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A7D36-E3CD-4D3B-870D-9B9040FC859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ED99E-CE02-4C5E-9009-1836CAF9D90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E6D29-AA7E-43AD-8D58-DD2E9C0EDC8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1DDE3-1C25-4812-999C-D4F8D11EFAF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9DFDB-976C-4919-B651-7B766210B76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53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E009A-D4DA-41E9-B0BB-C991904005C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5AAD9-E17E-469C-82EA-19930648814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8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DCA2B-1BFA-4A01-80CF-0FB4F94D53B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5A423-BDB0-4317-A0C1-EB922FD1252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62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5C397-CAFE-4FFA-87B2-F47C2844C5F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CD72B-F8DE-4E3C-8149-28AE4480E40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7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B72F4-A332-4CF8-B462-10D8D527F89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2F964-DE59-485B-A49C-6CCAB0ACF8A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1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F9C8B-0C85-41B9-920B-9EC1D888D57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93A5C-0F9D-4CEE-95D7-29A471D6A04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75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271F5-9BF1-4199-A607-4B8AD8125A9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F8F46-7A0D-47D4-9D10-876B3F2BB7A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C8052-C4B4-46D0-993E-CC83A2C40E6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9F21C-7171-4E70-ADEA-2F7CB9DA541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D3A05-1A50-451C-8539-FA4F601B23B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1AA8D-C4BE-4422-AF7D-FFF37191463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54A91-04AC-4832-AD22-843F94B4687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0C54C-AE65-4B1E-88F0-EC6817EB230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8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F3C2C-8D79-4A26-A840-5974F38230E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E233C-A89F-40F6-AE20-00DB5EEDC0C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93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 type="dt" idx="6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6DA8C-C01D-4BBE-8969-2F6B718E502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 type="ftr" idx="6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5"/>
          <p:cNvSpPr>
            <a:spLocks noGrp="1"/>
          </p:cNvSpPr>
          <p:nvPr>
            <p:ph type="sldNum" idx="6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62BA4-D160-445C-86B6-026184019B2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97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 type="dt" idx="7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EDAE3-BD73-45B9-9336-8724D3D2C81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 type="ftr" idx="7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 type="sldNum" idx="7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9EC9E-4C1C-44A7-AB82-532EA73B470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4"/>
    <p:sldLayoutId id="2147483949" r:id="rId5"/>
    <p:sldLayoutId id="2147483950" r:id="rId6"/>
    <p:sldLayoutId id="2147483951" r:id="rId7"/>
    <p:sldLayoutId id="2147483952" r:id="rId8"/>
    <p:sldLayoutId id="2147483953" r:id="rId9"/>
    <p:sldLayoutId id="2147483954" r:id="rId10"/>
    <p:sldLayoutId id="2147483955" r:id="rId11"/>
    <p:sldLayoutId id="2147483956" r:id="rId12"/>
    <p:sldLayoutId id="2147483957" r:id="rId13"/>
    <p:sldLayoutId id="2147483958" r:id="rId14"/>
    <p:sldLayoutId id="2147483959" r:id="rId15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02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3" name="PlaceHolder 3"/>
          <p:cNvSpPr>
            <a:spLocks noGrp="1"/>
          </p:cNvSpPr>
          <p:nvPr>
            <p:ph type="dt" idx="7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05F5B-E3BE-40E1-924E-6D8549F147E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PlaceHolder 4"/>
          <p:cNvSpPr>
            <a:spLocks noGrp="1"/>
          </p:cNvSpPr>
          <p:nvPr>
            <p:ph type="ftr" idx="7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PlaceHolder 5"/>
          <p:cNvSpPr>
            <a:spLocks noGrp="1"/>
          </p:cNvSpPr>
          <p:nvPr>
            <p:ph type="sldNum" idx="7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0DCBE-1E9E-4178-8088-E75D5485585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4"/>
    <p:sldLayoutId id="2147483962" r:id="rId5"/>
    <p:sldLayoutId id="2147483963" r:id="rId6"/>
    <p:sldLayoutId id="2147483964" r:id="rId7"/>
    <p:sldLayoutId id="2147483965" r:id="rId8"/>
    <p:sldLayoutId id="2147483966" r:id="rId9"/>
    <p:sldLayoutId id="2147483967" r:id="rId10"/>
    <p:sldLayoutId id="2147483968" r:id="rId11"/>
    <p:sldLayoutId id="2147483969" r:id="rId12"/>
    <p:sldLayoutId id="2147483970" r:id="rId13"/>
    <p:sldLayoutId id="2147483971" r:id="rId14"/>
    <p:sldLayoutId id="2147483972" r:id="rId15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06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 type="dt" idx="7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30C08-C379-48DC-A220-99EB4148576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 type="ftr" idx="7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 type="sldNum" idx="7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664ED-767D-45A4-9BC6-E30C74A03D3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4"/>
    <p:sldLayoutId id="2147483975" r:id="rId5"/>
    <p:sldLayoutId id="2147483976" r:id="rId6"/>
    <p:sldLayoutId id="2147483977" r:id="rId7"/>
    <p:sldLayoutId id="2147483978" r:id="rId8"/>
    <p:sldLayoutId id="2147483979" r:id="rId9"/>
    <p:sldLayoutId id="2147483980" r:id="rId10"/>
    <p:sldLayoutId id="2147483981" r:id="rId11"/>
    <p:sldLayoutId id="2147483982" r:id="rId12"/>
    <p:sldLayoutId id="2147483983" r:id="rId13"/>
    <p:sldLayoutId id="2147483984" r:id="rId14"/>
    <p:sldLayoutId id="2147483985" r:id="rId15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2" name="PlaceHolder 3"/>
          <p:cNvSpPr>
            <a:spLocks noGrp="1"/>
          </p:cNvSpPr>
          <p:nvPr>
            <p:ph type="dt" idx="7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B46E7-0DC6-4DFA-9A7A-A1724A39C9E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PlaceHolder 4"/>
          <p:cNvSpPr>
            <a:spLocks noGrp="1"/>
          </p:cNvSpPr>
          <p:nvPr>
            <p:ph type="ftr" idx="8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PlaceHolder 5"/>
          <p:cNvSpPr>
            <a:spLocks noGrp="1"/>
          </p:cNvSpPr>
          <p:nvPr>
            <p:ph type="sldNum" idx="8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FD539-82C6-4E4B-B74C-E81B6847730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3"/>
    <p:sldLayoutId id="2147483988" r:id="rId4"/>
    <p:sldLayoutId id="2147483989" r:id="rId5"/>
    <p:sldLayoutId id="2147483990" r:id="rId6"/>
    <p:sldLayoutId id="2147483991" r:id="rId7"/>
    <p:sldLayoutId id="2147483992" r:id="rId8"/>
    <p:sldLayoutId id="2147483993" r:id="rId9"/>
    <p:sldLayoutId id="2147483994" r:id="rId10"/>
    <p:sldLayoutId id="2147483995" r:id="rId11"/>
    <p:sldLayoutId id="2147483996" r:id="rId12"/>
    <p:sldLayoutId id="2147483997" r:id="rId13"/>
    <p:sldLayoutId id="2147483998" r:id="rId14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15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7" name="PlaceHolder 3"/>
          <p:cNvSpPr>
            <a:spLocks noGrp="1"/>
          </p:cNvSpPr>
          <p:nvPr>
            <p:ph type="dt" idx="8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C119E-5EE0-4ECE-B28A-53A022512E0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PlaceHolder 4"/>
          <p:cNvSpPr>
            <a:spLocks noGrp="1"/>
          </p:cNvSpPr>
          <p:nvPr>
            <p:ph type="ftr" idx="8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PlaceHolder 5"/>
          <p:cNvSpPr>
            <a:spLocks noGrp="1"/>
          </p:cNvSpPr>
          <p:nvPr>
            <p:ph type="sldNum" idx="8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299D8-CB8D-45A6-9C2D-A53B3C36F1A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4"/>
    <p:sldLayoutId id="2147484001" r:id="rId5"/>
    <p:sldLayoutId id="2147484002" r:id="rId6"/>
    <p:sldLayoutId id="2147484003" r:id="rId7"/>
    <p:sldLayoutId id="2147484004" r:id="rId8"/>
    <p:sldLayoutId id="2147484005" r:id="rId9"/>
    <p:sldLayoutId id="2147484006" r:id="rId10"/>
    <p:sldLayoutId id="2147484007" r:id="rId11"/>
    <p:sldLayoutId id="2147484008" r:id="rId12"/>
    <p:sldLayoutId id="2147484009" r:id="rId13"/>
    <p:sldLayoutId id="2147484010" r:id="rId14"/>
    <p:sldLayoutId id="2147484011" r:id="rId15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19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2" name="PlaceHolder 3"/>
          <p:cNvSpPr>
            <a:spLocks noGrp="1"/>
          </p:cNvSpPr>
          <p:nvPr>
            <p:ph type="dt" idx="8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859B0-F546-45BE-98A1-5EB54DE990F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PlaceHolder 4"/>
          <p:cNvSpPr>
            <a:spLocks noGrp="1"/>
          </p:cNvSpPr>
          <p:nvPr>
            <p:ph type="ftr" idx="8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PlaceHolder 5"/>
          <p:cNvSpPr>
            <a:spLocks noGrp="1"/>
          </p:cNvSpPr>
          <p:nvPr>
            <p:ph type="sldNum" idx="8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DA972-09FE-4093-A080-7B69BFCE935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4"/>
    <p:sldLayoutId id="2147484014" r:id="rId5"/>
    <p:sldLayoutId id="2147484015" r:id="rId6"/>
    <p:sldLayoutId id="2147484016" r:id="rId7"/>
    <p:sldLayoutId id="2147484017" r:id="rId8"/>
    <p:sldLayoutId id="2147484018" r:id="rId9"/>
    <p:sldLayoutId id="2147484019" r:id="rId10"/>
    <p:sldLayoutId id="2147484020" r:id="rId11"/>
    <p:sldLayoutId id="2147484021" r:id="rId12"/>
    <p:sldLayoutId id="2147484022" r:id="rId13"/>
    <p:sldLayoutId id="2147484023" r:id="rId14"/>
    <p:sldLayoutId id="2147484024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AE041-C8CA-4716-88B2-8F9D6FD86B7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24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7" name="PlaceHolder 3"/>
          <p:cNvSpPr>
            <a:spLocks noGrp="1"/>
          </p:cNvSpPr>
          <p:nvPr>
            <p:ph type="dt" idx="8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3CD3A-6BB7-4203-B318-8DF8C823552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PlaceHolder 4"/>
          <p:cNvSpPr>
            <a:spLocks noGrp="1"/>
          </p:cNvSpPr>
          <p:nvPr>
            <p:ph type="ftr" idx="8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PlaceHolder 5"/>
          <p:cNvSpPr>
            <a:spLocks noGrp="1"/>
          </p:cNvSpPr>
          <p:nvPr>
            <p:ph type="sldNum" idx="9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5A8B5-70A6-44FB-A711-54E274FA76D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4"/>
    <p:sldLayoutId id="2147484027" r:id="rId5"/>
    <p:sldLayoutId id="2147484028" r:id="rId6"/>
    <p:sldLayoutId id="2147484029" r:id="rId7"/>
    <p:sldLayoutId id="2147484030" r:id="rId8"/>
    <p:sldLayoutId id="2147484031" r:id="rId9"/>
    <p:sldLayoutId id="2147484032" r:id="rId10"/>
    <p:sldLayoutId id="2147484033" r:id="rId11"/>
    <p:sldLayoutId id="2147484034" r:id="rId12"/>
    <p:sldLayoutId id="2147484035" r:id="rId13"/>
    <p:sldLayoutId id="2147484036" r:id="rId14"/>
    <p:sldLayoutId id="2147484037" r:id="rId15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128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2" name="PlaceHolder 3"/>
          <p:cNvSpPr>
            <a:spLocks noGrp="1"/>
          </p:cNvSpPr>
          <p:nvPr>
            <p:ph type="dt" idx="9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F1727-DDCF-4393-ABDD-E9F20054C50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PlaceHolder 4"/>
          <p:cNvSpPr>
            <a:spLocks noGrp="1"/>
          </p:cNvSpPr>
          <p:nvPr>
            <p:ph type="ftr" idx="9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PlaceHolder 5"/>
          <p:cNvSpPr>
            <a:spLocks noGrp="1"/>
          </p:cNvSpPr>
          <p:nvPr>
            <p:ph type="sldNum" idx="9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185B8-0347-407D-997B-129ED6C6CB5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4"/>
    <p:sldLayoutId id="2147484040" r:id="rId5"/>
    <p:sldLayoutId id="2147484041" r:id="rId6"/>
    <p:sldLayoutId id="2147484042" r:id="rId7"/>
    <p:sldLayoutId id="2147484043" r:id="rId8"/>
    <p:sldLayoutId id="2147484044" r:id="rId9"/>
    <p:sldLayoutId id="2147484045" r:id="rId10"/>
    <p:sldLayoutId id="2147484046" r:id="rId11"/>
    <p:sldLayoutId id="2147484047" r:id="rId12"/>
    <p:sldLayoutId id="2147484048" r:id="rId13"/>
    <p:sldLayoutId id="2147484049" r:id="rId14"/>
    <p:sldLayoutId id="2147484050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AF6B9-FF18-45ED-91DB-92E7A886979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BFBB0-5E97-44FC-998D-DF906B14B9E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C30F3-0391-4051-AB97-D4216E8CFF0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38724-8577-4375-A1C9-C93BBD8B6D9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0C6B4-C68C-4CD0-9345-846DDE6165E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3B299-072E-48D4-850D-9E42085E509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5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5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5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5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5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5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5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5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1" name="图片 40984" descr=""/>
          <p:cNvPicPr/>
          <p:nvPr/>
        </p:nvPicPr>
        <p:blipFill>
          <a:blip r:embed="rId1"/>
          <a:stretch/>
        </p:blipFill>
        <p:spPr>
          <a:xfrm>
            <a:off x="1730520" y="1181160"/>
            <a:ext cx="5429160" cy="685800"/>
          </a:xfrm>
          <a:prstGeom prst="rect">
            <a:avLst/>
          </a:prstGeom>
          <a:ln w="0">
            <a:noFill/>
          </a:ln>
        </p:spPr>
      </p:pic>
      <p:pic>
        <p:nvPicPr>
          <p:cNvPr id="1332" name="图片 40985" descr=""/>
          <p:cNvPicPr/>
          <p:nvPr/>
        </p:nvPicPr>
        <p:blipFill>
          <a:blip r:embed="rId2"/>
          <a:stretch/>
        </p:blipFill>
        <p:spPr>
          <a:xfrm>
            <a:off x="882720" y="2473200"/>
            <a:ext cx="7124760" cy="666720"/>
          </a:xfrm>
          <a:prstGeom prst="rect">
            <a:avLst/>
          </a:prstGeom>
          <a:ln w="0">
            <a:noFill/>
          </a:ln>
        </p:spPr>
      </p:pic>
      <p:pic>
        <p:nvPicPr>
          <p:cNvPr id="1333" name="图片 40986" descr=""/>
          <p:cNvPicPr/>
          <p:nvPr/>
        </p:nvPicPr>
        <p:blipFill>
          <a:blip r:embed="rId3"/>
          <a:stretch/>
        </p:blipFill>
        <p:spPr>
          <a:xfrm>
            <a:off x="189000" y="3963960"/>
            <a:ext cx="3838320" cy="2104920"/>
          </a:xfrm>
          <a:prstGeom prst="rect">
            <a:avLst/>
          </a:prstGeom>
          <a:ln w="0">
            <a:noFill/>
          </a:ln>
        </p:spPr>
      </p:pic>
      <p:sp>
        <p:nvSpPr>
          <p:cNvPr id="1334" name="矩形 40987"/>
          <p:cNvSpPr/>
          <p:nvPr/>
        </p:nvSpPr>
        <p:spPr>
          <a:xfrm>
            <a:off x="336600" y="5178600"/>
            <a:ext cx="2697120" cy="325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矩形 40988"/>
          <p:cNvSpPr/>
          <p:nvPr/>
        </p:nvSpPr>
        <p:spPr>
          <a:xfrm>
            <a:off x="1263600" y="5737320"/>
            <a:ext cx="2697120" cy="325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3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13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6" name="图片 140289" descr=""/>
          <p:cNvPicPr/>
          <p:nvPr/>
        </p:nvPicPr>
        <p:blipFill>
          <a:blip r:embed="rId1"/>
          <a:stretch/>
        </p:blipFill>
        <p:spPr>
          <a:xfrm>
            <a:off x="387360" y="866880"/>
            <a:ext cx="3695760" cy="2228760"/>
          </a:xfrm>
          <a:prstGeom prst="rect">
            <a:avLst/>
          </a:prstGeom>
          <a:ln w="0">
            <a:noFill/>
          </a:ln>
        </p:spPr>
      </p:pic>
      <p:pic>
        <p:nvPicPr>
          <p:cNvPr id="1337" name="图片 140290" descr=""/>
          <p:cNvPicPr/>
          <p:nvPr/>
        </p:nvPicPr>
        <p:blipFill>
          <a:blip r:embed="rId2"/>
          <a:stretch/>
        </p:blipFill>
        <p:spPr>
          <a:xfrm>
            <a:off x="341280" y="3767040"/>
            <a:ext cx="5286240" cy="2600280"/>
          </a:xfrm>
          <a:prstGeom prst="rect">
            <a:avLst/>
          </a:prstGeom>
          <a:ln w="0">
            <a:noFill/>
          </a:ln>
        </p:spPr>
      </p:pic>
      <p:sp>
        <p:nvSpPr>
          <p:cNvPr id="1338" name="矩形 140291"/>
          <p:cNvSpPr/>
          <p:nvPr/>
        </p:nvSpPr>
        <p:spPr>
          <a:xfrm>
            <a:off x="488880" y="1762200"/>
            <a:ext cx="3510000" cy="681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矩形 140292"/>
          <p:cNvSpPr/>
          <p:nvPr/>
        </p:nvSpPr>
        <p:spPr>
          <a:xfrm>
            <a:off x="1746360" y="2689200"/>
            <a:ext cx="1350720" cy="325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矩形 140293"/>
          <p:cNvSpPr/>
          <p:nvPr/>
        </p:nvSpPr>
        <p:spPr>
          <a:xfrm>
            <a:off x="463680" y="4695840"/>
            <a:ext cx="4373280" cy="706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矩形 140294"/>
          <p:cNvSpPr/>
          <p:nvPr/>
        </p:nvSpPr>
        <p:spPr>
          <a:xfrm>
            <a:off x="1593720" y="5572080"/>
            <a:ext cx="1096920" cy="744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" dur="1000"/>
                                        <p:tgtEl>
                                          <p:spTgt spid="13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" dur="1000"/>
                                        <p:tgtEl>
                                          <p:spTgt spid="13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" dur="1000"/>
                                        <p:tgtEl>
                                          <p:spTgt spid="13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1000"/>
                                        <p:tgtEl>
                                          <p:spTgt spid="13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2" name="图片 139265" descr=""/>
          <p:cNvPicPr/>
          <p:nvPr/>
        </p:nvPicPr>
        <p:blipFill>
          <a:blip r:embed="rId1"/>
          <a:stretch/>
        </p:blipFill>
        <p:spPr>
          <a:xfrm>
            <a:off x="444600" y="896760"/>
            <a:ext cx="5181480" cy="4200840"/>
          </a:xfrm>
          <a:prstGeom prst="rect">
            <a:avLst/>
          </a:prstGeom>
          <a:ln w="0">
            <a:noFill/>
          </a:ln>
        </p:spPr>
      </p:pic>
      <p:sp>
        <p:nvSpPr>
          <p:cNvPr id="1343" name="矩形 139266"/>
          <p:cNvSpPr/>
          <p:nvPr/>
        </p:nvSpPr>
        <p:spPr>
          <a:xfrm>
            <a:off x="527040" y="1482840"/>
            <a:ext cx="3459240" cy="325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矩形 139267"/>
          <p:cNvSpPr/>
          <p:nvPr/>
        </p:nvSpPr>
        <p:spPr>
          <a:xfrm>
            <a:off x="1809720" y="1978200"/>
            <a:ext cx="1008000" cy="325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矩形 139268"/>
          <p:cNvSpPr/>
          <p:nvPr/>
        </p:nvSpPr>
        <p:spPr>
          <a:xfrm>
            <a:off x="527040" y="4149720"/>
            <a:ext cx="3014640" cy="325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矩形 139269"/>
          <p:cNvSpPr/>
          <p:nvPr/>
        </p:nvSpPr>
        <p:spPr>
          <a:xfrm>
            <a:off x="1797120" y="4657680"/>
            <a:ext cx="1008000" cy="325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0" dur="1000"/>
                                        <p:tgtEl>
                                          <p:spTgt spid="13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5" dur="1000"/>
                                        <p:tgtEl>
                                          <p:spTgt spid="13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0" dur="1000"/>
                                        <p:tgtEl>
                                          <p:spTgt spid="13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5" dur="1000"/>
                                        <p:tgtEl>
                                          <p:spTgt spid="13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7" name="图片 138241" descr=""/>
          <p:cNvPicPr/>
          <p:nvPr/>
        </p:nvPicPr>
        <p:blipFill>
          <a:blip r:embed="rId1"/>
          <a:stretch/>
        </p:blipFill>
        <p:spPr>
          <a:xfrm>
            <a:off x="392040" y="876240"/>
            <a:ext cx="5286600" cy="4953240"/>
          </a:xfrm>
          <a:prstGeom prst="rect">
            <a:avLst/>
          </a:prstGeom>
          <a:ln w="0">
            <a:noFill/>
          </a:ln>
        </p:spPr>
      </p:pic>
      <p:sp>
        <p:nvSpPr>
          <p:cNvPr id="1348" name="矩形 138242"/>
          <p:cNvSpPr/>
          <p:nvPr/>
        </p:nvSpPr>
        <p:spPr>
          <a:xfrm>
            <a:off x="527040" y="1457280"/>
            <a:ext cx="4780080" cy="325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矩形 138243"/>
          <p:cNvSpPr/>
          <p:nvPr/>
        </p:nvSpPr>
        <p:spPr>
          <a:xfrm>
            <a:off x="1746360" y="1978200"/>
            <a:ext cx="957240" cy="325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矩形 138244"/>
          <p:cNvSpPr/>
          <p:nvPr/>
        </p:nvSpPr>
        <p:spPr>
          <a:xfrm>
            <a:off x="476280" y="4390920"/>
            <a:ext cx="3573360" cy="833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矩形 138245"/>
          <p:cNvSpPr/>
          <p:nvPr/>
        </p:nvSpPr>
        <p:spPr>
          <a:xfrm>
            <a:off x="1720800" y="5381640"/>
            <a:ext cx="957240" cy="325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2" dur="1000"/>
                                        <p:tgtEl>
                                          <p:spTgt spid="13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7" dur="1000"/>
                                        <p:tgtEl>
                                          <p:spTgt spid="13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2" dur="1000"/>
                                        <p:tgtEl>
                                          <p:spTgt spid="13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7" dur="1000"/>
                                        <p:tgtEl>
                                          <p:spTgt spid="13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2" name="图片 137217" descr=""/>
          <p:cNvPicPr/>
          <p:nvPr/>
        </p:nvPicPr>
        <p:blipFill>
          <a:blip r:embed="rId1"/>
          <a:stretch/>
        </p:blipFill>
        <p:spPr>
          <a:xfrm>
            <a:off x="376200" y="892080"/>
            <a:ext cx="5038920" cy="3600720"/>
          </a:xfrm>
          <a:prstGeom prst="rect">
            <a:avLst/>
          </a:prstGeom>
          <a:ln w="0">
            <a:noFill/>
          </a:ln>
        </p:spPr>
      </p:pic>
      <p:sp>
        <p:nvSpPr>
          <p:cNvPr id="1353" name="矩形 137218"/>
          <p:cNvSpPr/>
          <p:nvPr/>
        </p:nvSpPr>
        <p:spPr>
          <a:xfrm>
            <a:off x="514440" y="1889280"/>
            <a:ext cx="4462200" cy="731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矩形 137219"/>
          <p:cNvSpPr/>
          <p:nvPr/>
        </p:nvSpPr>
        <p:spPr>
          <a:xfrm>
            <a:off x="984240" y="2790720"/>
            <a:ext cx="4462560" cy="731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矩形 137220"/>
          <p:cNvSpPr/>
          <p:nvPr/>
        </p:nvSpPr>
        <p:spPr>
          <a:xfrm>
            <a:off x="1517760" y="3730680"/>
            <a:ext cx="2481120" cy="731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4" dur="1000"/>
                                        <p:tgtEl>
                                          <p:spTgt spid="13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9" dur="1000"/>
                                        <p:tgtEl>
                                          <p:spTgt spid="1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4" dur="1000"/>
                                        <p:tgtEl>
                                          <p:spTgt spid="13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6" name="图片 136193" descr=""/>
          <p:cNvPicPr/>
          <p:nvPr/>
        </p:nvPicPr>
        <p:blipFill>
          <a:blip r:embed="rId1"/>
          <a:stretch/>
        </p:blipFill>
        <p:spPr>
          <a:xfrm>
            <a:off x="457200" y="873000"/>
            <a:ext cx="7543800" cy="3257640"/>
          </a:xfrm>
          <a:prstGeom prst="rect">
            <a:avLst/>
          </a:prstGeom>
          <a:ln w="0">
            <a:noFill/>
          </a:ln>
        </p:spPr>
      </p:pic>
      <p:sp>
        <p:nvSpPr>
          <p:cNvPr id="1357" name="矩形 136194"/>
          <p:cNvSpPr/>
          <p:nvPr/>
        </p:nvSpPr>
        <p:spPr>
          <a:xfrm>
            <a:off x="476280" y="1457280"/>
            <a:ext cx="5529240" cy="693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矩形 136195"/>
          <p:cNvSpPr/>
          <p:nvPr/>
        </p:nvSpPr>
        <p:spPr>
          <a:xfrm>
            <a:off x="1441440" y="2409840"/>
            <a:ext cx="3510000" cy="693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矩形 136196"/>
          <p:cNvSpPr/>
          <p:nvPr/>
        </p:nvSpPr>
        <p:spPr>
          <a:xfrm>
            <a:off x="1517760" y="3298680"/>
            <a:ext cx="3510000" cy="693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1" dur="1000"/>
                                        <p:tgtEl>
                                          <p:spTgt spid="1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6" dur="1000"/>
                                        <p:tgtEl>
                                          <p:spTgt spid="13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1" dur="1000"/>
                                        <p:tgtEl>
                                          <p:spTgt spid="1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0" name="图片 135169" descr=""/>
          <p:cNvPicPr/>
          <p:nvPr/>
        </p:nvPicPr>
        <p:blipFill>
          <a:blip r:embed="rId1"/>
          <a:stretch/>
        </p:blipFill>
        <p:spPr>
          <a:xfrm>
            <a:off x="365040" y="857160"/>
            <a:ext cx="6229440" cy="4533840"/>
          </a:xfrm>
          <a:prstGeom prst="rect">
            <a:avLst/>
          </a:prstGeom>
          <a:ln w="0">
            <a:noFill/>
          </a:ln>
        </p:spPr>
      </p:pic>
      <p:sp>
        <p:nvSpPr>
          <p:cNvPr id="1361" name="矩形 135170"/>
          <p:cNvSpPr/>
          <p:nvPr/>
        </p:nvSpPr>
        <p:spPr>
          <a:xfrm>
            <a:off x="450720" y="1774800"/>
            <a:ext cx="5808960" cy="846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矩形 135171"/>
          <p:cNvSpPr/>
          <p:nvPr/>
        </p:nvSpPr>
        <p:spPr>
          <a:xfrm>
            <a:off x="844560" y="2727360"/>
            <a:ext cx="5808600" cy="846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矩形 135172"/>
          <p:cNvSpPr/>
          <p:nvPr/>
        </p:nvSpPr>
        <p:spPr>
          <a:xfrm>
            <a:off x="958680" y="3641760"/>
            <a:ext cx="5808960" cy="846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矩形 135173"/>
          <p:cNvSpPr/>
          <p:nvPr/>
        </p:nvSpPr>
        <p:spPr>
          <a:xfrm>
            <a:off x="1657440" y="4492800"/>
            <a:ext cx="2290680" cy="846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8" dur="1000"/>
                                        <p:tgtEl>
                                          <p:spTgt spid="1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3" dur="1000"/>
                                        <p:tgtEl>
                                          <p:spTgt spid="13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8" dur="1000"/>
                                        <p:tgtEl>
                                          <p:spTgt spid="13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3" dur="1000"/>
                                        <p:tgtEl>
                                          <p:spTgt spid="13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5" name="图片 134145" descr=""/>
          <p:cNvPicPr/>
          <p:nvPr/>
        </p:nvPicPr>
        <p:blipFill>
          <a:blip r:embed="rId1"/>
          <a:stretch/>
        </p:blipFill>
        <p:spPr>
          <a:xfrm>
            <a:off x="357120" y="947880"/>
            <a:ext cx="5457960" cy="3286080"/>
          </a:xfrm>
          <a:prstGeom prst="rect">
            <a:avLst/>
          </a:prstGeom>
          <a:ln w="0">
            <a:noFill/>
          </a:ln>
        </p:spPr>
      </p:pic>
      <p:sp>
        <p:nvSpPr>
          <p:cNvPr id="1366" name="矩形 134146"/>
          <p:cNvSpPr/>
          <p:nvPr/>
        </p:nvSpPr>
        <p:spPr>
          <a:xfrm>
            <a:off x="438120" y="1787400"/>
            <a:ext cx="3979800" cy="820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矩形 134147"/>
          <p:cNvSpPr/>
          <p:nvPr/>
        </p:nvSpPr>
        <p:spPr>
          <a:xfrm>
            <a:off x="1555920" y="2638440"/>
            <a:ext cx="2138040" cy="820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矩形 134148"/>
          <p:cNvSpPr/>
          <p:nvPr/>
        </p:nvSpPr>
        <p:spPr>
          <a:xfrm>
            <a:off x="1593720" y="3692520"/>
            <a:ext cx="614520" cy="325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0" dur="1000"/>
                                        <p:tgtEl>
                                          <p:spTgt spid="13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5" dur="1000"/>
                                        <p:tgtEl>
                                          <p:spTgt spid="13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0" dur="1000"/>
                                        <p:tgtEl>
                                          <p:spTgt spid="13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7-01T00:48:38Z</dcterms:modified>
  <cp:revision>65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